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F98-DCCB-44DF-9EEF-189AD589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B3E-2564-46FB-8F75-09F72585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3F4-1057-4B34-AD98-B43CE8BD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1B5-5EA3-4BF7-AEBD-8CC8E33B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BDA-2E69-4640-93B1-D6D54809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F11-8AEA-4020-A1C4-EB3B011F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42A-CF37-462B-A37C-570BF668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172-4D01-4A85-9C70-69765348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97D-E606-4ECB-AA96-2285B117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DD5-76B6-47C4-81FD-D0254411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CDB-DDB3-4DF3-A090-29263470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A8B-672F-41EA-A998-A91B7177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ED37-4E46-4ED5-86C4-ADD8891C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ulldocumentaries.com/2009/05/13/cold-war-documentary-5-korea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.com/videos/robert-gerard-on-the-korean-war#command-decisions-inchon---approach-inchion" TargetMode="External"/><Relationship Id="rId2" Type="http://schemas.openxmlformats.org/officeDocument/2006/relationships/hyperlink" Target="http://www.history.com/videos/robert-gerard-on-the-korean-war#halting-north-korean-tanks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history.com/videos/robert-gerard-on-the-korean-war#command-decisions-inchon---approach-inchion" TargetMode="External"/><Relationship Id="rId5" Type="http://schemas.openxmlformats.org/officeDocument/2006/relationships/hyperlink" Target="http://www.history.com/videos/robert-gerard-on-the-korean-war#halting-north-korean-tanks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istory.com/videos/robert-gerard-on-the-korean-war#sherman-pratt-survives-the-korean-war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0-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rean War: A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orean War in 30 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KoreanWarMap"/>
          <p:cNvPicPr/>
          <p:nvPr/>
        </p:nvPicPr>
        <p:blipFill>
          <a:blip r:embed="rId1"/>
          <a:stretch/>
        </p:blipFill>
        <p:spPr>
          <a:xfrm>
            <a:off x="4892760" y="1219320"/>
            <a:ext cx="356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gotte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d in a stale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American casua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issues much less clear than in previous and subsequent confli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ea divided in two by the United States and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line: 3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lrg_koreawar_colormap"/>
          <p:cNvPicPr/>
          <p:nvPr/>
        </p:nvPicPr>
        <p:blipFill>
          <a:blip r:embed="rId1"/>
          <a:stretch/>
        </p:blipFill>
        <p:spPr>
          <a:xfrm>
            <a:off x="4950000" y="1143000"/>
            <a:ext cx="3463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cratic People’s Republic of K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t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viet Union, People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lrg_koreawar_colormap"/>
          <p:cNvPicPr/>
          <p:nvPr/>
        </p:nvPicPr>
        <p:blipFill>
          <a:blip r:embed="rId1"/>
          <a:srcRect l="0" t="0" r="0" b="35561"/>
          <a:stretch/>
        </p:blipFill>
        <p:spPr>
          <a:xfrm>
            <a:off x="3730680" y="1371600"/>
            <a:ext cx="52261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Oval 10"/>
          <p:cNvSpPr/>
          <p:nvPr/>
        </p:nvSpPr>
        <p:spPr>
          <a:xfrm>
            <a:off x="4267080" y="4800600"/>
            <a:ext cx="114300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724280" y="304812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3657600" y="3276720"/>
            <a:ext cx="914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7162920" y="4343400"/>
            <a:ext cx="1295280" cy="1219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 of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communist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rg_koreawar_colormap"/>
          <p:cNvPicPr/>
          <p:nvPr/>
        </p:nvPicPr>
        <p:blipFill>
          <a:blip r:embed="rId1"/>
          <a:srcRect l="0" t="49783" r="0" b="0"/>
          <a:stretch/>
        </p:blipFill>
        <p:spPr>
          <a:xfrm>
            <a:off x="3505320" y="1828800"/>
            <a:ext cx="5395680" cy="4297320"/>
          </a:xfrm>
          <a:prstGeom prst="rect">
            <a:avLst/>
          </a:prstGeom>
          <a:ln w="0">
            <a:noFill/>
          </a:ln>
        </p:spPr>
      </p:pic>
      <p:sp>
        <p:nvSpPr>
          <p:cNvPr id="56" name="Oval 6"/>
          <p:cNvSpPr/>
          <p:nvPr/>
        </p:nvSpPr>
        <p:spPr>
          <a:xfrm>
            <a:off x="5005440" y="2678040"/>
            <a:ext cx="9144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6781680" y="4952880"/>
            <a:ext cx="83844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57600" y="3657600"/>
            <a:ext cx="99072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ginning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Korean_War_Montage"/>
          <p:cNvPicPr/>
          <p:nvPr/>
        </p:nvPicPr>
        <p:blipFill>
          <a:blip r:embed="rId2"/>
          <a:stretch/>
        </p:blipFill>
        <p:spPr>
          <a:xfrm>
            <a:off x="5268960" y="1219320"/>
            <a:ext cx="2862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Korea Inv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 25,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Korea invades South K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,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and South Korea forces halt their retreat near Pu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lrg_koreawar_colormap"/>
          <p:cNvPicPr/>
          <p:nvPr/>
        </p:nvPicPr>
        <p:blipFill>
          <a:blip r:embed="rId1"/>
          <a:stretch/>
        </p:blipFill>
        <p:spPr>
          <a:xfrm>
            <a:off x="5265720" y="1143000"/>
            <a:ext cx="3483000" cy="5516640"/>
          </a:xfrm>
          <a:prstGeom prst="rect">
            <a:avLst/>
          </a:prstGeom>
          <a:ln w="0">
            <a:noFill/>
          </a:ln>
        </p:spPr>
      </p:pic>
      <p:sp>
        <p:nvSpPr>
          <p:cNvPr id="65" name="Line 6"/>
          <p:cNvSpPr/>
          <p:nvPr/>
        </p:nvSpPr>
        <p:spPr>
          <a:xfrm>
            <a:off x="6248520" y="3962520"/>
            <a:ext cx="30456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6858000" y="4038480"/>
            <a:ext cx="53352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6629400" y="480060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 flipH="1">
            <a:off x="6477120" y="5257800"/>
            <a:ext cx="3808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Fights 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. 15,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forces land at Inchon and break out of Pu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proaching Inc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lting North Korean Tan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. 24,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Arthur starts offensive toward Yalu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lrg_koreawar_colormap"/>
          <p:cNvPicPr/>
          <p:nvPr/>
        </p:nvPicPr>
        <p:blipFill>
          <a:blip r:embed="rId3"/>
          <a:stretch/>
        </p:blipFill>
        <p:spPr>
          <a:xfrm>
            <a:off x="4950000" y="1143000"/>
            <a:ext cx="3511440" cy="5562720"/>
          </a:xfrm>
          <a:prstGeom prst="rect">
            <a:avLst/>
          </a:prstGeom>
          <a:ln w="0">
            <a:noFill/>
          </a:ln>
        </p:spPr>
      </p:pic>
      <p:sp>
        <p:nvSpPr>
          <p:cNvPr id="72" name="Oval 6"/>
          <p:cNvSpPr/>
          <p:nvPr/>
        </p:nvSpPr>
        <p:spPr>
          <a:xfrm>
            <a:off x="5181480" y="4495680"/>
            <a:ext cx="11430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 flipV="1">
            <a:off x="6477120" y="4723920"/>
            <a:ext cx="76176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 flipH="1" flipV="1">
            <a:off x="6324480" y="3124080"/>
            <a:ext cx="76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5715000" y="3276720"/>
            <a:ext cx="533520" cy="1218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. 15,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 forces land at Inchon and break out of Pu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Approaching Inc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Halting North Korean Tan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Enters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. 25,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ese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and SK forces re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erman Pratt Survives the Korean W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. 10, 19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sts push UN forces to 3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gf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lrg_koreawar_colormap"/>
          <p:cNvPicPr/>
          <p:nvPr/>
        </p:nvPicPr>
        <p:blipFill>
          <a:blip r:embed="rId2"/>
          <a:stretch/>
        </p:blipFill>
        <p:spPr>
          <a:xfrm>
            <a:off x="5029200" y="1219320"/>
            <a:ext cx="3416400" cy="5410080"/>
          </a:xfrm>
          <a:prstGeom prst="rect">
            <a:avLst/>
          </a:prstGeom>
          <a:ln w="0">
            <a:noFill/>
          </a:ln>
        </p:spPr>
      </p:pic>
      <p:sp>
        <p:nvSpPr>
          <p:cNvPr id="80" name="Oval 6"/>
          <p:cNvSpPr/>
          <p:nvPr/>
        </p:nvSpPr>
        <p:spPr>
          <a:xfrm>
            <a:off x="4952880" y="2514600"/>
            <a:ext cx="60984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5410080" y="3124080"/>
            <a:ext cx="68580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6248520" y="2666880"/>
            <a:ext cx="30456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705720" y="40384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. 16, 19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forces push communists back to the 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erick Blesse flies P-51s in Korea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7, 19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ase-fire is signed, with border at 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Gerard on the Korean W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until 19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lrg_koreawar_colormap"/>
          <p:cNvPicPr/>
          <p:nvPr/>
        </p:nvPicPr>
        <p:blipFill>
          <a:blip r:embed="rId1"/>
          <a:stretch/>
        </p:blipFill>
        <p:spPr>
          <a:xfrm>
            <a:off x="4952880" y="1143000"/>
            <a:ext cx="3511800" cy="5562720"/>
          </a:xfrm>
          <a:prstGeom prst="rect">
            <a:avLst/>
          </a:prstGeom>
          <a:ln w="0">
            <a:noFill/>
          </a:ln>
        </p:spPr>
      </p:pic>
      <p:sp>
        <p:nvSpPr>
          <p:cNvPr id="87" name="Line 6"/>
          <p:cNvSpPr/>
          <p:nvPr/>
        </p:nvSpPr>
        <p:spPr>
          <a:xfrm flipH="1" flipV="1">
            <a:off x="6400440" y="4419360"/>
            <a:ext cx="30492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H="1" flipV="1">
            <a:off x="6857640" y="4266720"/>
            <a:ext cx="1522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4:57:55Z</dcterms:created>
  <dc:creator>Owner</dc:creator>
  <dc:description/>
  <dc:language>en-US</dc:language>
  <cp:lastModifiedBy>hberndt</cp:lastModifiedBy>
  <dcterms:modified xsi:type="dcterms:W3CDTF">2010-04-22T12:39:31Z</dcterms:modified>
  <cp:revision>7</cp:revision>
  <dc:subject/>
  <dc:title>The Korean War</dc:title>
</cp:coreProperties>
</file>